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857-A350-4EA0-8B15-9FA54B0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DF4-FADC-4F1F-A998-0E625CDA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3C0-5323-44A9-894C-DA049EC5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D74-FE77-4C9B-9D20-7010EDE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BEA-B1E1-4858-88CD-7FED307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57C-DA09-4561-9F1F-78441A5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3B5-76D7-48CA-96F9-029D8B4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8CF-9A80-47F9-AE6C-5FEEE1EF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EA6-2716-4A3D-9F2D-3866D108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EF7-7713-4F60-8BC4-FDCF43E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AF6-309A-4EFC-8B06-DA48FBE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A95-DED1-451A-8000-5D44AB0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E06-0ADB-4E28-8493-8925C112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628640"/>
            <a:ext cx="54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60093"/>
                </a:solidFill>
                <a:latin typeface="Times New Roman"/>
              </a:rPr>
              <a:t>The Helping Hands of Israel</a:t>
            </a:r>
            <a:endParaRPr b="0" lang="en-US" sz="1800" spc="1" strike="noStrike">
              <a:ln w="0">
                <a:noFill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00720" y="2781360"/>
            <a:ext cx="202392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by Gila Segal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December 2011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38:18Z</dcterms:created>
  <dc:creator>נוה חנה</dc:creator>
  <dc:description/>
  <dc:language>en-US</dc:language>
  <cp:lastModifiedBy>נוה חנה</cp:lastModifiedBy>
  <dcterms:modified xsi:type="dcterms:W3CDTF">2012-01-02T06:39:13Z</dcterms:modified>
  <cp:revision>1</cp:revision>
  <dc:subject/>
  <dc:title>שקופית 1</dc:title>
</cp:coreProperties>
</file>